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1198-DE98-44E7-95B6-F6B7399E7B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AEBD-86C4-4488-8B21-EDEAB89DB4E1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EF50-D13D-4C3F-BC2D-E5E1B42A5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0EAF-2053-44B9-AF02-8A803E0BC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1CE7-D5B1-468A-BAC2-C26608B1F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F16F-1E46-4F66-9516-E3AB77082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50A9-83F9-470D-A0C9-37B25A52CA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AB40-F4C9-4C5F-9EB9-B19F0F060A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0F2D-934D-431A-B6EF-EA02D7BFB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22D2-9AB7-45B1-98D4-E287A5F80F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28FE-B097-4B15-AC1B-47ECFAA510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90FA-7ECC-43AB-9FCA-A13C16F79C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E35F-2E2A-4E75-B9CF-4B4093233A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9094-977E-4310-8A75-B119011A4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796B-7064-4DBF-B9BC-AED0CCBE40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9818-FDA2-43FA-BDD2-94D2A34D83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3ACF-2F09-4375-ACB2-1E1D6AD134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59B4-70A2-4A2B-967D-02DE8933EE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51AD-DFF9-426A-BB55-E187EF07B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C764-B480-4F44-871F-2A62B59CE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FE1D-A853-4F2D-ABB8-E5D6A491F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9039-21C6-435F-B1DB-E13C73E45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E42C-02EE-4A21-A77E-ABACD8AB7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FE8B-4BB8-4A11-9B40-60B0FFEE6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1417-C86B-45CC-8623-CA72697D1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1A62-39A8-465D-B04B-E34E56EC9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400" y="6451560"/>
            <a:ext cx="90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5688-9CB6-43D9-AA64-8E083ABDB10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400" y="6447960"/>
            <a:ext cx="9003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e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A693-00EE-4923-89F8-F5B1C9B2A384}" type="slidenum">
              <a:rPr b="0" lang="en-GB" sz="1000" spc="-1" strike="noStrike">
                <a:solidFill>
                  <a:srgbClr val="003e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3760" y="2015640"/>
            <a:ext cx="8373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3760" y="2774880"/>
            <a:ext cx="83739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DT Example Beamer Present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372360" y="533556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531120" y="61722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pmblakely</cp:lastModifiedBy>
  <dcterms:modified xsi:type="dcterms:W3CDTF">2017-05-25T11:58:0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