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5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AFEFB-7265-413E-BF9E-B6BD3C5D9E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0D039C-1A50-48D8-8D5A-4282FCE23816}" type="slidenum">
              <a:rPr b="0" lang="en-US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14AB-8BC6-4ED9-822F-BF7C08D90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1914-8F3B-4238-A6A8-4BD0B1319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5F0C-CFF6-404C-8531-85E3CCEF5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44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48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44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48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DF48-1721-4166-8891-E6B29E22D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EA81-2BB2-4742-9BC3-0DE94550EE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A7E3-7414-4696-A7F7-83F12AC9AF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0AF1-9859-47CC-B024-4BB25960B3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5F01-E5EA-42AA-A14F-1E588A83B3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9DA2-DDF6-4C90-A5D4-A0BEE95BC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3760" y="398160"/>
            <a:ext cx="837396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0749-67F7-4EBB-B538-59E034FE75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0761-6A6C-4ABE-ADA5-C2D14B446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4C65-93E7-47E4-B2A0-60CBF6D1F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96C6-1B9D-4157-A441-09A06925CD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8570-432C-4B6B-9E10-2327A9B7C6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A616-0896-424C-99D1-9EBE541D9E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1FE4-BE4D-43C2-BA86-A1AACD6651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444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548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444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548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5432-15D0-43DA-B704-29772AD7EB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E6FD-6BB3-49A4-A778-16EF31C2E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2606-3CEE-4893-AC5D-703C63CD4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7D0C-2AF3-462B-940F-02A3A0FCD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3760" y="398160"/>
            <a:ext cx="837396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6F3F-71CE-4EE2-B04F-23DF51863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7ED3-456D-4F9E-A32D-E2403B6C5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ACA0-6A7F-483A-945E-42671C6FD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7636-37CF-4155-A109-878D1EEE4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760" y="6451560"/>
            <a:ext cx="8985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C1A88C-F6C8-42B7-B187-6F0A407AA42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760" y="6448320"/>
            <a:ext cx="8985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US" sz="1000" spc="-1" strike="noStrike">
                <a:solidFill>
                  <a:srgbClr val="003e72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749CDDFB-96A5-48C6-B146-B4EFF38D1900}" type="slidenum">
              <a:rPr b="0" lang="en-US" sz="1000" spc="-1" strike="noStrike">
                <a:solidFill>
                  <a:srgbClr val="003e72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4120" y="2016000"/>
            <a:ext cx="837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120" y="2774880"/>
            <a:ext cx="83739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hil Example Present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4120" y="398520"/>
            <a:ext cx="8375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Suvi Tenkanen</cp:lastModifiedBy>
  <dcterms:modified xsi:type="dcterms:W3CDTF">2014-07-22T12:05:19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