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F8E6-E1D1-4885-93FE-A6FC9463E8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B972-3FF4-46DC-97D3-6860C27E85A0}" type="slidenum">
              <a:rPr b="0" lang="en-GB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06E4-3E4D-4C67-8BD8-037539007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18C4-EB9E-4601-90D9-5C5DA96CD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C20F-278F-4C26-ADE0-F2EECD503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620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37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620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A449-50C8-475F-8A38-9A4D580D1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7F7C-DECD-4C10-9552-489FD8F048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9B0A-782E-43D6-8017-9630413670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58C4-FCF5-420A-89E3-0C605D54CF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EF19-12DD-42FD-AC9B-0E1E542F1A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2485-ABE2-44E0-B411-2C197915EE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4120" y="398160"/>
            <a:ext cx="837576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51EA-674E-4850-9FC6-B69CCFA355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8660B-CAED-44FF-B7E4-1C62A82CE3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0BE8-6E46-4E55-9F62-6DB20F4F3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F0DC-4BDC-492D-9E13-28E23E5787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11D8-1A51-4901-81B1-BF73338851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4C38-08FA-44F1-9830-CD64026254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02343-A4CD-42AF-82E8-9BAFE93F66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51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620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37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51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620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D403-C079-4965-934D-6478E364B2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880B-1768-4F56-8EB3-8194C7185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5AD5-E97F-4028-B5B8-2C3B54091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CC70-E3C7-49C5-B864-0F50804E1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4120" y="398160"/>
            <a:ext cx="837576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2D5F-515E-4641-8FFD-78E5AB4AD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55A7-F1FD-4D69-8384-9427EE029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4273-4A71-40A7-BDC0-9A0F3FE95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50E8-89D3-4B98-B72B-238093C10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538200" indent="-2667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80964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1079640" indent="-2685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62400" y="6451560"/>
            <a:ext cx="90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92DD-C2CF-4AE6-B0C6-85AB70A8FD4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5365800"/>
            <a:ext cx="9140760" cy="66528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0" name="Rectangle 14"/>
          <p:cNvSpPr/>
          <p:nvPr/>
        </p:nvSpPr>
        <p:spPr>
          <a:xfrm>
            <a:off x="0" y="6031080"/>
            <a:ext cx="9140760" cy="172800"/>
          </a:xfrm>
          <a:prstGeom prst="rect">
            <a:avLst/>
          </a:prstGeom>
          <a:solidFill>
            <a:srgbClr val="6a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538200" indent="-2667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80964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1079640" indent="-2685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7862400" y="6447960"/>
            <a:ext cx="9003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e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380A-A19F-4DBF-A928-AC55346501A4}" type="slidenum">
              <a:rPr b="0" lang="en-GB" sz="1000" spc="-1" strike="noStrike">
                <a:solidFill>
                  <a:srgbClr val="003e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3760" y="2015640"/>
            <a:ext cx="8373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3760" y="2774880"/>
            <a:ext cx="83739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84120" y="5548320"/>
            <a:ext cx="8373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DT Example Beamer Presentation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6372360" y="533556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6531120" y="617220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0:29:55Z</dcterms:created>
  <dc:creator>..</dc:creator>
  <dc:description/>
  <dc:language>en-US</dc:language>
  <cp:lastModifiedBy>pmblakely</cp:lastModifiedBy>
  <dcterms:modified xsi:type="dcterms:W3CDTF">2017-05-25T11:58:07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