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4343400"/>
            <a:ext cx="455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C6783-D92E-4212-ADB4-420BC4965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03AB2F-284E-4B5D-9D1F-DD320817D235}" type="slidenum">
              <a:rPr b="0" lang="en-US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"/>
          <p:cNvSpPr/>
          <p:nvPr/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D7A3-CF95-411C-BA2F-87DAFA8BF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1F9D-1060-41D8-9F73-E3A2620DA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ADCA-B818-4A05-BB75-19CBF93B0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444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548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376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444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548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20C4-A566-4BB2-BF0B-C22F500FD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7840-6AB4-4814-A6A9-E574115D2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624F-6906-42F5-AAB3-DACBB31C00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3B13-1BB0-403B-B15B-23C4FFAD05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2ACB-F08A-41B4-93B5-5FAAFB2D0E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0AAC-90AC-4E9B-9DBD-D66AE98C48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3760" y="398160"/>
            <a:ext cx="837396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A08D-0CAF-4488-B1B0-2B1F199702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D7FD-CDF9-4B7A-AA49-3CAA79A0E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A991-B9D5-490D-BE03-BBF27CFAA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E2CA-3270-4FD7-A7E2-A7E89F36F8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AD32-B441-4E6D-AEAA-FEEDB2BF92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0F3C-BB70-4040-867C-5BE7DB1F6E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7D36-265A-4EED-89E3-18D6BD5CA7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444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548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76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444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548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8B88-2DFF-4275-87D7-89C4DA526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08EC-BB86-4B31-BDF5-0552245A5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5290-A0B2-41C1-BB57-0EAF01111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BAE4-C2C5-4E82-8B39-2786AD9D2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3760" y="398160"/>
            <a:ext cx="837396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8D36-314F-4A9B-BE04-E1E85548F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03E9-6F78-4297-B64C-344C80D39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95E0-14DE-4DD5-A1E7-7E1EAFA25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5EE6-F0BF-4E23-B2D0-79F592877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62760" y="6451560"/>
            <a:ext cx="89856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9D7FC1-720B-47C8-92D7-2C543B7BA9A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5365800"/>
            <a:ext cx="9140760" cy="66528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031080"/>
            <a:ext cx="9140760" cy="172800"/>
          </a:xfrm>
          <a:prstGeom prst="rect">
            <a:avLst/>
          </a:prstGeom>
          <a:solidFill>
            <a:srgbClr val="6a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862760" y="6448320"/>
            <a:ext cx="89856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US" sz="1000" spc="-1" strike="noStrike">
                <a:solidFill>
                  <a:srgbClr val="003e72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848CAF31-A4F0-45F6-974C-76AD544E66A6}" type="slidenum">
              <a:rPr b="0" lang="en-US" sz="1000" spc="-1" strike="noStrike">
                <a:solidFill>
                  <a:srgbClr val="003e72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4120" y="2016000"/>
            <a:ext cx="837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120" y="2774880"/>
            <a:ext cx="83739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hil Example Present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4120" y="398520"/>
            <a:ext cx="8375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29:55Z</dcterms:created>
  <dc:creator>..</dc:creator>
  <dc:description/>
  <dc:language>en-US</dc:language>
  <cp:lastModifiedBy>Suvi Tenkanen</cp:lastModifiedBy>
  <dcterms:modified xsi:type="dcterms:W3CDTF">2014-07-22T12:05:19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