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EAB8-B507-41E1-A2A1-10982B26ED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DCF7-9618-4FC1-AAED-3D0EDE180B06}" type="slidenum">
              <a:rPr b="0" lang="en-GB" sz="1200" spc="-1" strike="noStrike">
                <a:solidFill>
                  <a:srgbClr val="003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23E7-052E-499C-A7A8-BB28A7E1B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B514-7123-42DE-A839-46C7099F2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723C-7348-4E0C-95AA-755EF063F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BD5A-7D0A-4D88-A676-EADDB13E1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9BB09-D9BD-4CAC-A3F0-C84CC47E29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5F8B-39E4-4747-AA83-F865BE77C3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9BB9-0F97-49CE-9ECB-889B2F9945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F6EF-2212-458B-B295-B5063EE550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AEB5-0C80-4B19-AE1E-DCA6739AC4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14122-40A6-4A6F-A076-2622D895C3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8953-BC0E-415D-BC3A-7771146409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4887-EC88-43BC-A6D4-21684F470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21C3-A02A-4C71-BC27-10DC7D103C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A8AA-42C6-4F37-897E-207AC44C64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7A32-1115-4A48-ABF5-870A79CFFC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3AC7-FD9A-4581-884B-BC354BC3A4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516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6200" y="170820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37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516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6200" y="3832920"/>
            <a:ext cx="26960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4F92-1074-4DD9-888F-9298E7F58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44FD-5DA0-4B19-9FDC-1004C127A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DD44-ECD7-4502-9498-090117672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968C-22C5-4B01-991B-957CE6F2D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4120" y="398160"/>
            <a:ext cx="8375760" cy="19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090D-8A7A-4502-8EB4-A86FD82DE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FDD0-3AD4-4A44-B9D5-ECB325FB2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383292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A006-058F-4E3B-BC4D-BFDBC4B41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708200"/>
            <a:ext cx="40863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3760" y="3832920"/>
            <a:ext cx="837396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F736-0EEB-47AE-B495-258DA3214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62400" y="6451560"/>
            <a:ext cx="90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D985-2F62-47B8-AF16-4C861DE20714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5365800"/>
            <a:ext cx="9140760" cy="66528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0" name="Rectangle 14"/>
          <p:cNvSpPr/>
          <p:nvPr/>
        </p:nvSpPr>
        <p:spPr>
          <a:xfrm>
            <a:off x="0" y="6031080"/>
            <a:ext cx="9140760" cy="172800"/>
          </a:xfrm>
          <a:prstGeom prst="rect">
            <a:avLst/>
          </a:prstGeom>
          <a:solidFill>
            <a:srgbClr val="6a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1" marL="538200" indent="-2667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2" marL="80964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3" marL="1079640" indent="-26856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4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5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  <a:p>
            <a:pPr lvl="6" marL="1351080" indent="-270000">
              <a:spcAft>
                <a:spcPts val="1874"/>
              </a:spcAft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7862400" y="6447960"/>
            <a:ext cx="9003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3e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7363-0DDF-4878-8FDB-3B45FC3ECE50}" type="slidenum">
              <a:rPr b="0" lang="en-GB" sz="1000" spc="-1" strike="noStrike">
                <a:solidFill>
                  <a:srgbClr val="003e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3760" y="2015640"/>
            <a:ext cx="83739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3760" y="2774880"/>
            <a:ext cx="837396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84120" y="5548320"/>
            <a:ext cx="83739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DT Example Beamer Presentation</a:t>
            </a:r>
            <a:endParaRPr b="0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6372360" y="533556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4120" y="398160"/>
            <a:ext cx="83757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3760" y="1708200"/>
            <a:ext cx="837396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6531120" y="6172200"/>
            <a:ext cx="2619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0:29:55Z</dcterms:created>
  <dc:creator>..</dc:creator>
  <dc:description/>
  <dc:language>en-US</dc:language>
  <cp:lastModifiedBy>pmblakely</cp:lastModifiedBy>
  <dcterms:modified xsi:type="dcterms:W3CDTF">2017-05-25T11:58:07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