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42640" y="4343400"/>
            <a:ext cx="45543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005F8-8F1C-4CF4-A7D2-6B402E2D90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D1DF6B-65D0-41AC-98C9-2A9771D51FD8}" type="slidenum">
              <a:rPr b="0" lang="en-US" sz="1200" spc="-1" strike="noStrike">
                <a:solidFill>
                  <a:srgbClr val="003e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"/>
          <p:cNvSpPr/>
          <p:nvPr/>
        </p:nvSpPr>
        <p:spPr>
          <a:xfrm>
            <a:off x="1143000" y="4343400"/>
            <a:ext cx="4556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8126D-F42E-4CE7-A318-CF961900D2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3760" y="1707840"/>
            <a:ext cx="83725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3760" y="3831480"/>
            <a:ext cx="83725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05401-9E63-49C4-87E9-4E91D77053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3760" y="170784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0784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3760" y="383148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3148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59AAF-E801-4F2C-BF9A-63D7D68536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3760" y="1707840"/>
            <a:ext cx="269568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4440" y="1707840"/>
            <a:ext cx="269568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5480" y="1707840"/>
            <a:ext cx="269568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3760" y="3831480"/>
            <a:ext cx="269568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4440" y="3831480"/>
            <a:ext cx="269568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5480" y="3831480"/>
            <a:ext cx="269568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8519A-E122-4E59-B660-4E1D84BF88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2D184-84AD-42FF-B714-CD707ADA26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3760" y="1707840"/>
            <a:ext cx="837252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61426-76F8-40F2-9180-4D8ADC1FC0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3760" y="1707840"/>
            <a:ext cx="837252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12B8A-61E8-4A52-96AA-5B0AB7048B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3760" y="1707840"/>
            <a:ext cx="40856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707840"/>
            <a:ext cx="40856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570CC-F344-4A40-B574-297DB97F42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84EBE-00C8-4DA6-9E99-D38BB505CA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3760" y="398160"/>
            <a:ext cx="8373960" cy="19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Aft>
                <a:spcPts val="1874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9C7DB-139B-4A5C-B4C0-D38E5ACA28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3760" y="170784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707840"/>
            <a:ext cx="40856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3760" y="383148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C63BC-4438-47F1-8D84-2B6FAC2FB0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3760" y="1707840"/>
            <a:ext cx="837252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3FCC2-5608-4A9B-941D-0A4355A501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3760" y="1707840"/>
            <a:ext cx="40856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0784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83148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48529-15F4-401F-943B-0BCB5E6A13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3760" y="170784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0784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3760" y="3831480"/>
            <a:ext cx="83725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33F26-6FEA-4933-A2FF-CDD8A5E7C5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3760" y="1707840"/>
            <a:ext cx="83725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3760" y="3831480"/>
            <a:ext cx="83725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E92FA-E69F-4A0D-8C83-F10E52B672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3760" y="170784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0784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3760" y="383148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83148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6CEA0-CCFE-4863-BD89-4C002E3F1E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3760" y="1707840"/>
            <a:ext cx="269568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14440" y="1707840"/>
            <a:ext cx="269568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45480" y="1707840"/>
            <a:ext cx="269568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3760" y="3831480"/>
            <a:ext cx="269568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14440" y="3831480"/>
            <a:ext cx="269568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45480" y="3831480"/>
            <a:ext cx="269568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ABB81-3F28-4973-AE96-B0A26FE93C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3760" y="1707840"/>
            <a:ext cx="837252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463B3-3F02-4120-93D7-22BD3FCB6A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3760" y="1707840"/>
            <a:ext cx="40856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07840"/>
            <a:ext cx="40856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AF494-C4CC-4F09-A0AB-A66D8E8DC0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4CD9B-E8C9-4715-B2EA-58B44D7D08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3760" y="398160"/>
            <a:ext cx="8373960" cy="19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Aft>
                <a:spcPts val="1874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3A5FA-DFB9-4617-A249-0F6BBA3C0D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3760" y="170784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07840"/>
            <a:ext cx="40856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3760" y="383148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01A90-698F-46F7-B907-53506FB8D0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3760" y="1707840"/>
            <a:ext cx="40856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0784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3148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58C77-F107-4510-A4E4-E8324DE329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3760" y="170784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07840"/>
            <a:ext cx="40856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3760" y="3831480"/>
            <a:ext cx="83725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240E9-AF66-417A-89AB-010CB538AE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3760" y="1707840"/>
            <a:ext cx="837252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1" marL="343080" indent="-343080">
              <a:spcAft>
                <a:spcPts val="18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2" marL="343080" indent="-343080">
              <a:spcAft>
                <a:spcPts val="187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3" marL="343080" indent="-343080">
              <a:spcAft>
                <a:spcPts val="18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4" marL="343080" indent="-343080">
              <a:spcAft>
                <a:spcPts val="18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5" marL="343080" indent="-343080">
              <a:spcAft>
                <a:spcPts val="18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6" marL="343080" indent="-343080">
              <a:spcAft>
                <a:spcPts val="18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862760" y="6451560"/>
            <a:ext cx="89856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603F96-642B-45BC-BB5D-87590D916E7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5365800"/>
            <a:ext cx="9140760" cy="665280"/>
          </a:xfrm>
          <a:prstGeom prst="rect">
            <a:avLst/>
          </a:prstGeom>
          <a:solidFill>
            <a:srgbClr val="003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6031080"/>
            <a:ext cx="9140760" cy="172800"/>
          </a:xfrm>
          <a:prstGeom prst="rect">
            <a:avLst/>
          </a:prstGeom>
          <a:solidFill>
            <a:srgbClr val="6a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3760" y="398160"/>
            <a:ext cx="837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3760" y="1707840"/>
            <a:ext cx="837252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874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1" marL="343080" indent="-343080">
              <a:spcAft>
                <a:spcPts val="18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2" marL="343080" indent="-343080">
              <a:spcAft>
                <a:spcPts val="1874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3" marL="343080" indent="-343080">
              <a:spcAft>
                <a:spcPts val="1874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4" marL="343080" indent="-343080">
              <a:spcAft>
                <a:spcPts val="18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5" marL="343080" indent="-343080">
              <a:spcAft>
                <a:spcPts val="18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6" marL="343080" indent="-343080">
              <a:spcAft>
                <a:spcPts val="1874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7862760" y="6448320"/>
            <a:ext cx="89856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en-US" sz="1000" spc="-1" strike="noStrike">
                <a:solidFill>
                  <a:srgbClr val="003e72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fld id="{DA69D47A-31B7-4B60-904C-19FA2EBF08B9}" type="slidenum">
              <a:rPr b="0" lang="en-US" sz="1000" spc="-1" strike="noStrike">
                <a:solidFill>
                  <a:srgbClr val="003e72"/>
                </a:solidFill>
                <a:latin typeface="Times New Roman"/>
                <a:ea typeface="DejaVu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4120" y="2016000"/>
            <a:ext cx="8373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4120" y="2774880"/>
            <a:ext cx="83739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4120" y="5548320"/>
            <a:ext cx="83739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Phil Example Presentation</a:t>
            </a:r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84120" y="398520"/>
            <a:ext cx="83757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4120" y="1708200"/>
            <a:ext cx="8373960" cy="40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0:29:55Z</dcterms:created>
  <dc:creator>..</dc:creator>
  <dc:description/>
  <dc:language>en-US</dc:language>
  <cp:lastModifiedBy>Suvi Tenkanen</cp:lastModifiedBy>
  <dcterms:modified xsi:type="dcterms:W3CDTF">2014-07-22T12:05:19Z</dcterms:modified>
  <cp:revision>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